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BD7-F211-4DA6-BB04-E6B1C96B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3B8-014C-41D1-9891-693CDBB9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6C7-8F6C-40B8-A402-31A83E5D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3F5-B079-4293-BAFB-D9167F48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B6A-2313-4ED9-AE4C-5F790B28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55F-F2BD-4283-ACDC-0F61442E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778-84B7-4FC1-ACDF-0E19E933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EC0-CCD9-4852-A1AA-D4C21B35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368-B6D8-4081-8021-9743286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B98-312E-4BA6-8DB1-241D6D0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600-FD57-4E47-8F0E-2DB7CDB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952-3B83-4155-8F39-C4E8FAE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E0BF-85C2-487D-AC3B-83447B36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066680"/>
          <a:ext cx="6781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3680" y="2805120"/>
            <a:ext cx="56340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040" y="271476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2970360"/>
            <a:ext cx="73512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600200"/>
            <a:ext cx="928800" cy="33804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828800"/>
            <a:ext cx="194328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971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91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990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        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56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81080" y="3200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Dolores Rodríguez García</cp:lastModifiedBy>
  <cp:lastPrinted>2001-06-28T11:06:49Z</cp:lastPrinted>
  <dcterms:modified xsi:type="dcterms:W3CDTF">2005-06-06T10:33:20Z</dcterms:modified>
  <cp:revision>39</cp:revision>
  <dc:subject/>
  <dc:title>DISTRIBUCION POR COMUNIDADES AUTONOMAS DEL VALOR DE LA  PRODUCCION MINERA - 1997 ( porcentaje sobre el valor total ) </dc:title>
</cp:coreProperties>
</file>